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593-7253-437C-BED5-49C5328A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7D2-C1DC-4E3F-A38D-B39245D4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648-3EDB-4131-BCB2-81FE18A3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682-EE0E-48C5-B57A-B51660C6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505-73C0-4281-AD38-22FF9F08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9AA-4E5F-42A4-A590-96E8E483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CDE-775D-4B01-B062-1B33BE3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340-5AAC-48AB-A959-D1F30C1C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D67-42EA-4F23-B8B6-1BF0A3F0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A18-91A9-487B-A66C-2A12CD36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47B-8219-48DF-ADED-28155E9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776-A3C6-4949-9AD6-4A541528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D2B3-D659-4132-9912-BA9B2600D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over_genche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Double Replacemen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olar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ed vs. Di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ttp://www.proprofs.com/quiz-school/upload/yuiupload/1749148290.jpg"/>
          <p:cNvPicPr/>
          <p:nvPr/>
        </p:nvPicPr>
        <p:blipFill>
          <a:blip r:embed="rId1"/>
          <a:srcRect l="0" t="4053" r="0" b="0"/>
          <a:stretch/>
        </p:blipFill>
        <p:spPr>
          <a:xfrm>
            <a:off x="1295280" y="1219320"/>
            <a:ext cx="5695920" cy="4687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990720" y="6014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ed Suga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76920" y="5992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Suga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ity= moles of solute per Liters of solution  (M=n/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alcuate the molarity when 75.0 grams of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ssolved in 500.0 mL of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molarity of the following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. grams of calcium nitrite in 240.0 mL of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.0 grams of sodium hydroxide in 2.2 liters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rams of solid are required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 L of 0.25 M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olve 27 g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ilute to 0.75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ution of 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e: moles of solute remain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L of a 5.0M stock solution would you need to prepare 100.0mL of 0.25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ve 340 mL of a 0.50 M NaBr solution, what will the concentration be if I add 560 mL more water to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9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hat volume would I need to add water to the solution in the previous problem to get a solution with a concentration of 0.0250 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mass= (mass of solute/mass of solution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cent by mass of NaHCO3 in a solution of 20g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600 g of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Volu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solute and solvent are liqu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volume = (volume of solute/volume of solution)*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100.0 mL of a 30.0% ethanol solution, what volumes of ethanol and water are in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1-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www.bcscience.com/bc10/images/0_quiz-5.1-04.gif"/>
          <p:cNvPicPr/>
          <p:nvPr/>
        </p:nvPicPr>
        <p:blipFill>
          <a:blip r:embed="rId1"/>
          <a:stretch/>
        </p:blipFill>
        <p:spPr>
          <a:xfrm>
            <a:off x="457200" y="2362320"/>
            <a:ext cx="7869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3880" y="1397160"/>
          <a:ext cx="6096240" cy="2763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tating (burn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pp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 with me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dicator Colo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 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in front or COOH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at the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c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lvl="2" marL="123480" indent="-123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-, di-, and triprotic acids- have 1, 2, or 3 H atoms that can become ion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ot all compounds that contain H are acidic and   not all hydrogens in an acid will necessarily ion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Naming Rul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Acids (HCl)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ydro  _______ 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cid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- ic acids from at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- ous acids from it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2 &amp; 15.3The Nature of Homogeneous and Heterogeneou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4360" y="1500120"/>
            <a:ext cx="822960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Systems – 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eous- water containing dissolved substanc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not all solutions are aque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nt- “does the dissolv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e- “is dissolve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2835360" y="4114800"/>
            <a:ext cx="54324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 System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Colloids and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a dispersed phase in a dispersio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in colloids and suspensions are larger than solute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uncp.edu/home/mcclurem/ptable/ni_3.jpg"/>
          <p:cNvPicPr/>
          <p:nvPr/>
        </p:nvPicPr>
        <p:blipFill>
          <a:blip r:embed="rId1"/>
          <a:stretch/>
        </p:blipFill>
        <p:spPr>
          <a:xfrm>
            <a:off x="6095880" y="2362320"/>
            <a:ext cx="223848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renovateyourmarketing.com/wp-content/uploads/2012/02/paint_cans.jpg"/>
          <p:cNvPicPr/>
          <p:nvPr/>
        </p:nvPicPr>
        <p:blipFill>
          <a:blip r:embed="rId2"/>
          <a:stretch/>
        </p:blipFill>
        <p:spPr>
          <a:xfrm>
            <a:off x="685800" y="42768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henius Definition of 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5800" y="12794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s- generat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s-generate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http://www.biologycorner.com/resources/acids_bases.gif"/>
          <p:cNvPicPr/>
          <p:nvPr/>
        </p:nvPicPr>
        <p:blipFill>
          <a:blip r:embed="rId1"/>
          <a:srcRect l="0" t="14402" r="0" b="0"/>
          <a:stretch/>
        </p:blipFill>
        <p:spPr>
          <a:xfrm>
            <a:off x="396720" y="2286000"/>
            <a:ext cx="4356360" cy="2209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ydronium-ion-formation.gif"/>
          <p:cNvPicPr/>
          <p:nvPr/>
        </p:nvPicPr>
        <p:blipFill>
          <a:blip r:embed="rId2"/>
          <a:stretch/>
        </p:blipFill>
        <p:spPr>
          <a:xfrm>
            <a:off x="5018040" y="4025880"/>
            <a:ext cx="35164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v.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 or IIA with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ttp://www.wiley.com/college/pratt/0471393878/student/review/acid_base/acid_dissociation.gif"/>
          <p:cNvPicPr/>
          <p:nvPr/>
        </p:nvPicPr>
        <p:blipFill>
          <a:blip r:embed="rId1"/>
          <a:stretch/>
        </p:blipFill>
        <p:spPr>
          <a:xfrm>
            <a:off x="3352680" y="2590920"/>
            <a:ext cx="3962520" cy="31766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385720" y="103500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termined by the extent of i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868680" y="5924520"/>
            <a:ext cx="654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mall dissociation constants (K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or K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) = weak acids and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Large dissociation constants = strong acids and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alization Reaction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and base react to yield water and a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beakerofions_before"/>
          <p:cNvPicPr/>
          <p:nvPr/>
        </p:nvPicPr>
        <p:blipFill>
          <a:blip r:embed="rId1"/>
          <a:stretch/>
        </p:blipFill>
        <p:spPr>
          <a:xfrm>
            <a:off x="762120" y="350532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beakerofions"/>
          <p:cNvPicPr/>
          <p:nvPr/>
        </p:nvPicPr>
        <p:blipFill>
          <a:blip r:embed="rId2"/>
          <a:stretch/>
        </p:blipFill>
        <p:spPr>
          <a:xfrm>
            <a:off x="5334120" y="3657600"/>
            <a:ext cx="2813040" cy="2925720"/>
          </a:xfrm>
          <a:prstGeom prst="rect">
            <a:avLst/>
          </a:prstGeom>
          <a:ln w="0">
            <a:noFill/>
          </a:ln>
        </p:spPr>
      </p:pic>
      <p:sp>
        <p:nvSpPr>
          <p:cNvPr id="116" name="Line 10"/>
          <p:cNvSpPr/>
          <p:nvPr/>
        </p:nvSpPr>
        <p:spPr>
          <a:xfrm>
            <a:off x="36576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ration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adding a solution of known concentration to one of unknown concentration until a neutral solution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ttp://www.chem.uwec.edu/Chem352_S11/pages/elaborations/acids-bases/e_neutralization/titration-calculation.png"/>
          <p:cNvPicPr/>
          <p:nvPr/>
        </p:nvPicPr>
        <p:blipFill>
          <a:blip r:embed="rId1"/>
          <a:stretch/>
        </p:blipFill>
        <p:spPr>
          <a:xfrm>
            <a:off x="1066680" y="3124080"/>
            <a:ext cx="6972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predict endpoint of t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86indicators"/>
          <p:cNvPicPr/>
          <p:nvPr/>
        </p:nvPicPr>
        <p:blipFill>
          <a:blip r:embed="rId1"/>
          <a:srcRect l="0" t="0" r="22499" b="0"/>
          <a:stretch/>
        </p:blipFill>
        <p:spPr>
          <a:xfrm>
            <a:off x="1066680" y="1523880"/>
            <a:ext cx="6858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http://t0.gstatic.com/images?q=tbn:ANd9GcTZ_kBnfSishSliELlK3xKVb98kqdg2Cv5Ubfltg-eZ6xXJ5k0rG4klV-8Uqg"/>
          <p:cNvPicPr/>
          <p:nvPr/>
        </p:nvPicPr>
        <p:blipFill>
          <a:blip r:embed="rId1"/>
          <a:stretch/>
        </p:blipFill>
        <p:spPr>
          <a:xfrm>
            <a:off x="304920" y="2478240"/>
            <a:ext cx="3124080" cy="272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bouman.chem.georgetown.edu/S02/lect14/ph.gif"/>
          <p:cNvPicPr/>
          <p:nvPr/>
        </p:nvPicPr>
        <p:blipFill>
          <a:blip r:embed="rId2"/>
          <a:stretch/>
        </p:blipFill>
        <p:spPr>
          <a:xfrm>
            <a:off x="3394080" y="914400"/>
            <a:ext cx="49626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Acids – Dissociation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80880" y="1523880"/>
          <a:ext cx="8382240" cy="2837160"/>
        </p:xfrm>
        <a:graphic>
          <a:graphicData uri="http://schemas.openxmlformats.org/drawingml/2006/table">
            <a:tbl>
              <a:tblPr/>
              <a:tblGrid>
                <a:gridCol w="2438640"/>
                <a:gridCol w="1676160"/>
                <a:gridCol w="1981440"/>
                <a:gridCol w="2286000"/>
              </a:tblGrid>
              <a:tr h="60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o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 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-1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0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nm or lar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s Settl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ndall Effec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Mix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e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ge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ge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2640" y="609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ons and Co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46480" y="4648320"/>
            <a:ext cx="69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ndall Effect: The scattering of light by suspended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37200" y="5261040"/>
            <a:ext cx="614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sion:  Colloidal suspension of a liquid in a liq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yo, margarine, butter, mi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269000" y="611352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Know examples from table 15.3 on page 4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ssol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for solute particles being surrounded by solvent molecules =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l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oniclattice_solvation"/>
          <p:cNvPicPr/>
          <p:nvPr/>
        </p:nvPicPr>
        <p:blipFill>
          <a:blip r:embed="rId1"/>
          <a:stretch/>
        </p:blipFill>
        <p:spPr>
          <a:xfrm>
            <a:off x="2286000" y="2895480"/>
            <a:ext cx="41911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1 and 1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52520" y="15998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us.123rf.com/400wm/400/400/kaludov/kaludov1106/kaludov110600050/9819969-solubility-of-the-acids-hydroxides-and-salts-in-water.jpg"/>
          <p:cNvPicPr/>
          <p:nvPr/>
        </p:nvPicPr>
        <p:blipFill>
          <a:blip r:embed="rId1"/>
          <a:stretch/>
        </p:blipFill>
        <p:spPr>
          <a:xfrm>
            <a:off x="533520" y="2514600"/>
            <a:ext cx="3809880" cy="269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ater.me.vccs.edu/courses/env211/changes/solution2.jpg"/>
          <p:cNvPicPr/>
          <p:nvPr/>
        </p:nvPicPr>
        <p:blipFill>
          <a:blip r:embed="rId2"/>
          <a:stretch/>
        </p:blipFill>
        <p:spPr>
          <a:xfrm>
            <a:off x="4648320" y="2433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dissolving- influenc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tation, temperature, particle size (surface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Dis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://img.directindustry.com/images_di/photo-g/laboratory-hot-plate-magnetic-stirrer-425464.jpg"/>
          <p:cNvPicPr/>
          <p:nvPr/>
        </p:nvPicPr>
        <p:blipFill>
          <a:blip r:embed="rId1"/>
          <a:stretch/>
        </p:blipFill>
        <p:spPr>
          <a:xfrm>
            <a:off x="711360" y="2857680"/>
            <a:ext cx="353196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4419720" y="3298680"/>
            <a:ext cx="39621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that can be dissolved- influenc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/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5333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bility- the maximum amount of solute per a given amount of solvent (usually 100g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ol_curve.jpg (53222 bytes)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ol_curve"/>
          <p:cNvPicPr/>
          <p:nvPr/>
        </p:nvPicPr>
        <p:blipFill>
          <a:blip r:embed="rId1"/>
          <a:stretch/>
        </p:blipFill>
        <p:spPr>
          <a:xfrm>
            <a:off x="762120" y="993600"/>
            <a:ext cx="7305480" cy="5475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048120" y="370044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828800" y="914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117880" y="1316160"/>
            <a:ext cx="380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 rot="19848000">
            <a:off x="3276720" y="167616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 rot="19913400">
            <a:off x="2823480" y="2589840"/>
            <a:ext cx="320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ing Solubility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520" y="99036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s in water- generally more soluble at higher temperatur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N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99072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es in water- solubility decreases with increased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solubi1"/>
          <p:cNvPicPr/>
          <p:nvPr/>
        </p:nvPicPr>
        <p:blipFill>
          <a:blip r:embed="rId1"/>
          <a:stretch/>
        </p:blipFill>
        <p:spPr>
          <a:xfrm>
            <a:off x="914400" y="2133720"/>
            <a:ext cx="70866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18:46Z</dcterms:created>
  <dc:creator>udsd</dc:creator>
  <dc:description/>
  <dc:language>en-US</dc:language>
  <cp:lastModifiedBy>Dawn</cp:lastModifiedBy>
  <dcterms:modified xsi:type="dcterms:W3CDTF">2012-04-08T17:35:20Z</dcterms:modified>
  <cp:revision>58</cp:revision>
  <dc:subject/>
  <dc:title>Acid-Base Chemistry</dc:title>
</cp:coreProperties>
</file>